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180638" cy="7315200"/>
  <p:notesSz cx="118332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DD4-4BDB-481B-8C95-3DC59FDD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712620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6760" y="5121720"/>
            <a:ext cx="712620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14F-9149-40E4-A14C-6F9C815E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676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824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12A-1C8C-4DB6-9C5C-BFA23951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36240" y="414504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5360" y="414504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6760" y="512172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36240" y="512172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5360" y="512172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2DC-0DBD-4352-ADD0-1A3B4902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8761-F781-4933-B655-4F54B5D7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6760" y="4145040"/>
            <a:ext cx="7126200" cy="18698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D4B4-EBA5-4082-9B35-E0B45324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712620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579A-7EDD-455D-93B7-78E2872C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7425-0E42-4B6A-B332-B5460324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43EC-CBDD-4EC3-BC9A-5C232293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0" y="2112480"/>
            <a:ext cx="8653320" cy="79128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6BF8-E735-47A2-98EA-E41DA17F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676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825E-0EC4-419D-A3C1-DCAD6E0E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6760" y="4145040"/>
            <a:ext cx="7126200" cy="18698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14C-E99E-4AC0-9A42-658B1205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7824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CF68-F749-4DAC-BBF0-B43AF77B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6760" y="5121720"/>
            <a:ext cx="712620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0C30-1DE1-4600-91D9-B776967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712620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6760" y="5121720"/>
            <a:ext cx="712620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DABC-637C-4FD5-BA91-93D087F5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676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7824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28C2-DF8E-405C-82C7-D1BC5A81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36240" y="414504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5360" y="414504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6760" y="512172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36240" y="512172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5360" y="512172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2EAA-8DE6-4618-82F0-9D4AC106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712620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5A6-F88E-4F01-B295-D8CE01AC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08D-942F-4121-B86C-FCCD21EB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AEB-D333-46F4-BC16-200B5C57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0" y="2112480"/>
            <a:ext cx="8653320" cy="79128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F03-7009-4BD1-8A9E-F6F49E80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676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57F-7DBD-4C9F-92A1-7BA2855C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824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C28-204F-44E7-A293-5C17AF8B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6760" y="5121720"/>
            <a:ext cx="712620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844-D2C7-4559-ACFC-27BFD7B8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244080"/>
            <a:ext cx="9474120" cy="141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600" y="1787400"/>
            <a:ext cx="9507600" cy="4718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1284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249200" indent="-24912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1749600" indent="-24948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2249640" indent="-25092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2249640" indent="-250920"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2249640" indent="-250920"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39840" y="6660720"/>
            <a:ext cx="254448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8320" y="6660720"/>
            <a:ext cx="322416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5760" y="6660720"/>
            <a:ext cx="254484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fld id="{2784AABF-3927-4514-98DA-5A425592C725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39840" y="6660720"/>
            <a:ext cx="254448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78320" y="6660720"/>
            <a:ext cx="322416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95760" y="6660720"/>
            <a:ext cx="254484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fld id="{D56D3853-F139-4AF9-BA94-93786AC13C6F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9040" y="1711440"/>
            <a:ext cx="91623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500040" indent="0" algn="ctr">
              <a:spcBef>
                <a:spcPts val="77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000080" algn="ctr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00120" algn="ctr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998720" algn="ctr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9987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9987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857680" y="2001960"/>
            <a:ext cx="403200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  AGUA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6760" y="4145040"/>
            <a:ext cx="7126200" cy="18698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994040" y="1928880"/>
            <a:ext cx="58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sentado por: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034040" y="4089240"/>
            <a:ext cx="1729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102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26040" y="4881600"/>
            <a:ext cx="2305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CIAS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849320" y="3009960"/>
            <a:ext cx="650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ICKY SANDOVAL OYOLA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36600" y="1787400"/>
            <a:ext cx="9507600" cy="4718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RACTERISTICAS DEL AGU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NALISIS DE LAS AGUAS DEL MUNICIPIO DE CAJICA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AHORRO Y USO DEL AGU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FORMAS DE POTABILIZACION DEL AGU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RATAMIENTO DE AGUAS RESIDUAL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36600" y="1065240"/>
            <a:ext cx="9507600" cy="54403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0" algn="just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Nuestro medio ambiente y nuestra vida, depende de un recurso muy conocido, el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AGUA.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El Agua es una sustancia química que tiene propiedades muy peculiares, una de ellas es su gran poder de disolver, se le ha llamado " El solvente Universal ", es por ello que casi nunca encontramos una agua "Pura"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36600" y="417240"/>
            <a:ext cx="9507600" cy="608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 fontScale="96000"/>
          </a:bodyPr>
          <a:p>
            <a:pPr marL="359640" indent="-3596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asificación del agua según su origen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   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superficia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de río.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de pozo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de lagos y laguna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de mar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de lluvi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destilad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purificad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0">
              <a:spcBef>
                <a:spcPts val="901"/>
              </a:spcBef>
              <a:buNone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9640" indent="0"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38040" y="633240"/>
            <a:ext cx="9507600" cy="6048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 fontScale="98000"/>
          </a:bodyPr>
          <a:p>
            <a:pPr marL="367200" indent="-36720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agua se clasifica también según el uso que se le vaya a dar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gua de uso doméstic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gua para limpieza y lavad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gua para uso industri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gua para análisis químico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gua para aplicaciones biológicas (libre de pirógen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85520" y="7064280"/>
            <a:ext cx="395280" cy="250920"/>
          </a:xfrm>
          <a:custGeom>
            <a:avLst/>
            <a:gdLst>
              <a:gd name="textAreaLeft" fmla="*/ 16200 w 395280"/>
              <a:gd name="textAreaRight" fmla="*/ 379080 w 3952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34009" h="21600">
                <a:moveTo>
                  <a:pt x="0" y="0"/>
                </a:moveTo>
                <a:lnTo>
                  <a:pt x="34009" y="0"/>
                </a:lnTo>
                <a:lnTo>
                  <a:pt x="34009" y="21600"/>
                </a:lnTo>
                <a:lnTo>
                  <a:pt x="0" y="21600"/>
                </a:lnTo>
                <a:close/>
              </a:path>
              <a:path fill="lightenLess" w="34009" h="21600">
                <a:moveTo>
                  <a:pt x="0" y="0"/>
                </a:moveTo>
                <a:lnTo>
                  <a:pt x="34009" y="0"/>
                </a:lnTo>
                <a:lnTo>
                  <a:pt x="32609" y="1400"/>
                </a:lnTo>
                <a:lnTo>
                  <a:pt x="1400" y="1400"/>
                </a:lnTo>
                <a:close/>
              </a:path>
              <a:path fill="darken" w="34009" h="21600">
                <a:moveTo>
                  <a:pt x="34009" y="0"/>
                </a:moveTo>
                <a:lnTo>
                  <a:pt x="34009" y="21600"/>
                </a:lnTo>
                <a:lnTo>
                  <a:pt x="32609" y="20200"/>
                </a:lnTo>
                <a:lnTo>
                  <a:pt x="32609" y="1400"/>
                </a:lnTo>
                <a:close/>
              </a:path>
              <a:path fill="darkenLess" w="34009" h="21600">
                <a:moveTo>
                  <a:pt x="34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09" y="20200"/>
                </a:lnTo>
                <a:close/>
              </a:path>
              <a:path fill="lighten" w="34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09" h="21600">
                <a:moveTo>
                  <a:pt x="13506" y="10800"/>
                </a:moveTo>
                <a:lnTo>
                  <a:pt x="24011" y="3794"/>
                </a:lnTo>
                <a:lnTo>
                  <a:pt x="24011" y="17806"/>
                </a:lnTo>
                <a:close/>
              </a:path>
              <a:path fill="darken" w="34009" h="21600">
                <a:moveTo>
                  <a:pt x="9998" y="3794"/>
                </a:moveTo>
                <a:lnTo>
                  <a:pt x="11661" y="3794"/>
                </a:lnTo>
                <a:lnTo>
                  <a:pt x="11661" y="17806"/>
                </a:lnTo>
                <a:lnTo>
                  <a:pt x="999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6240" y="244080"/>
            <a:ext cx="9474120" cy="141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O" sz="4400" spc="-1" strike="noStrike">
                <a:solidFill>
                  <a:srgbClr val="b7e7ff"/>
                </a:solidFill>
                <a:latin typeface="Arial"/>
              </a:rPr>
              <a:t>Análisis de las aguas del municipio de Cajicá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6600" y="1787400"/>
            <a:ext cx="9507600" cy="4718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O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4000" spc="-1" strike="noStrike">
                <a:solidFill>
                  <a:srgbClr val="ffffff"/>
                </a:solidFill>
                <a:latin typeface="Arial"/>
              </a:rPr>
              <a:t>En el sector rincón santo se encuentran dos vertimientos de aguas neg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O" sz="4000" spc="-1" strike="noStrike">
                <a:solidFill>
                  <a:srgbClr val="ffffff"/>
                </a:solidFill>
                <a:latin typeface="Arial"/>
              </a:rPr>
              <a:t>El río frío recibe los vertimientos principalmente de la empresa Alquerí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O" sz="4000" spc="-1" strike="noStrike">
                <a:solidFill>
                  <a:srgbClr val="ffffff"/>
                </a:solidFill>
                <a:latin typeface="Arial"/>
              </a:rPr>
              <a:t>El río frío es utilizado para lavar los alimentos que van para el consumo huma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71120" y="6848640"/>
            <a:ext cx="409680" cy="466560"/>
          </a:xfrm>
          <a:custGeom>
            <a:avLst/>
            <a:gdLst>
              <a:gd name="textAreaLeft" fmla="*/ 26280 w 409680"/>
              <a:gd name="textAreaRight" fmla="*/ 383400 w 409680"/>
              <a:gd name="textAreaTop" fmla="*/ 26280 h 466560"/>
              <a:gd name="textAreaBottom" fmla="*/ 440280 h 466560"/>
            </a:gdLst>
            <a:ahLst/>
            <a:rect l="textAreaLeft" t="textAreaTop" r="textAreaRight" b="textAreaBottom"/>
            <a:pathLst>
              <a:path w="21600" h="24596">
                <a:moveTo>
                  <a:pt x="0" y="0"/>
                </a:moveTo>
                <a:lnTo>
                  <a:pt x="21600" y="0"/>
                </a:lnTo>
                <a:lnTo>
                  <a:pt x="21600" y="24596"/>
                </a:lnTo>
                <a:lnTo>
                  <a:pt x="0" y="24596"/>
                </a:lnTo>
                <a:close/>
              </a:path>
              <a:path fill="lightenLess" w="21600" h="245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96">
                <a:moveTo>
                  <a:pt x="21600" y="0"/>
                </a:moveTo>
                <a:lnTo>
                  <a:pt x="21600" y="24596"/>
                </a:lnTo>
                <a:lnTo>
                  <a:pt x="20200" y="23196"/>
                </a:lnTo>
                <a:lnTo>
                  <a:pt x="20200" y="1400"/>
                </a:lnTo>
                <a:close/>
              </a:path>
              <a:path fill="darkenLess" w="21600" h="24596">
                <a:moveTo>
                  <a:pt x="21600" y="24596"/>
                </a:moveTo>
                <a:lnTo>
                  <a:pt x="0" y="24596"/>
                </a:lnTo>
                <a:lnTo>
                  <a:pt x="1400" y="23196"/>
                </a:lnTo>
                <a:lnTo>
                  <a:pt x="20200" y="23196"/>
                </a:lnTo>
                <a:close/>
              </a:path>
              <a:path fill="lighten" w="21600" h="24596">
                <a:moveTo>
                  <a:pt x="0" y="245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96"/>
                </a:lnTo>
                <a:close/>
              </a:path>
              <a:path fill="darken" w="21600" h="24596">
                <a:moveTo>
                  <a:pt x="7301" y="12298"/>
                </a:moveTo>
                <a:lnTo>
                  <a:pt x="17806" y="5292"/>
                </a:lnTo>
                <a:lnTo>
                  <a:pt x="17806" y="19305"/>
                </a:lnTo>
                <a:close/>
              </a:path>
              <a:path fill="darken" w="21600" h="24596">
                <a:moveTo>
                  <a:pt x="3794" y="5292"/>
                </a:moveTo>
                <a:lnTo>
                  <a:pt x="5456" y="5292"/>
                </a:lnTo>
                <a:lnTo>
                  <a:pt x="5456" y="19305"/>
                </a:lnTo>
                <a:lnTo>
                  <a:pt x="3794" y="1930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244080"/>
            <a:ext cx="9474120" cy="141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HORRO Y USO EFICIENTE DEL AGU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600" y="1787400"/>
            <a:ext cx="9507600" cy="4718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ciclar agua del proces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jorar el mantenimiento para reemplazar equipos y partes variad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ducir los tiempos de riego de jardin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paración de fug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stalación de boquillas de aspersió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stalar y/o reemplazar boquillas de cierre automátic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tilización de aguas lluvia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915480" y="7042320"/>
            <a:ext cx="265320" cy="272880"/>
          </a:xfrm>
          <a:custGeom>
            <a:avLst/>
            <a:gdLst>
              <a:gd name="textAreaLeft" fmla="*/ 16920 w 265320"/>
              <a:gd name="textAreaRight" fmla="*/ 248400 w 265320"/>
              <a:gd name="textAreaTop" fmla="*/ 16920 h 272880"/>
              <a:gd name="textAreaBottom" fmla="*/ 255960 h 272880"/>
            </a:gdLst>
            <a:ahLst/>
            <a:rect l="textAreaLeft" t="textAreaTop" r="textAreaRight" b="textAreaBottom"/>
            <a:pathLst>
              <a:path w="21600" h="22215">
                <a:moveTo>
                  <a:pt x="0" y="0"/>
                </a:moveTo>
                <a:lnTo>
                  <a:pt x="21600" y="0"/>
                </a:lnTo>
                <a:lnTo>
                  <a:pt x="21600" y="22215"/>
                </a:lnTo>
                <a:lnTo>
                  <a:pt x="0" y="22215"/>
                </a:lnTo>
                <a:close/>
              </a:path>
              <a:path fill="lightenLess" w="21600" h="222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15">
                <a:moveTo>
                  <a:pt x="21600" y="0"/>
                </a:moveTo>
                <a:lnTo>
                  <a:pt x="21600" y="22215"/>
                </a:lnTo>
                <a:lnTo>
                  <a:pt x="20200" y="20815"/>
                </a:lnTo>
                <a:lnTo>
                  <a:pt x="20200" y="1400"/>
                </a:lnTo>
                <a:close/>
              </a:path>
              <a:path fill="darkenLess" w="21600" h="22215">
                <a:moveTo>
                  <a:pt x="21600" y="22215"/>
                </a:moveTo>
                <a:lnTo>
                  <a:pt x="0" y="22215"/>
                </a:lnTo>
                <a:lnTo>
                  <a:pt x="1400" y="20815"/>
                </a:lnTo>
                <a:lnTo>
                  <a:pt x="20200" y="20815"/>
                </a:lnTo>
                <a:close/>
              </a:path>
              <a:path fill="lighten" w="21600" h="22215">
                <a:moveTo>
                  <a:pt x="0" y="222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15"/>
                </a:lnTo>
                <a:close/>
              </a:path>
              <a:path fill="darken" w="21600" h="22215">
                <a:moveTo>
                  <a:pt x="7301" y="11107"/>
                </a:moveTo>
                <a:lnTo>
                  <a:pt x="17806" y="4101"/>
                </a:lnTo>
                <a:lnTo>
                  <a:pt x="17806" y="18114"/>
                </a:lnTo>
                <a:close/>
              </a:path>
              <a:path fill="darken" w="21600" h="22215">
                <a:moveTo>
                  <a:pt x="3794" y="4101"/>
                </a:moveTo>
                <a:lnTo>
                  <a:pt x="5456" y="4101"/>
                </a:lnTo>
                <a:lnTo>
                  <a:pt x="5456" y="18114"/>
                </a:lnTo>
                <a:lnTo>
                  <a:pt x="3794" y="1811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244080"/>
            <a:ext cx="9474120" cy="141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PERIMENTO DE DESTILACION DEL AGU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09680" y="1641600"/>
            <a:ext cx="9507600" cy="54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ES DESTILACION?: proceso de separación de mezclas, teniendo en cuenta las sustancias y sus diferentes puntos de ebulli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BON ACTIVADO: es un carbón que se calienta a muy altas temperaturas en ausencia de oxigeno por lo cual se abren unas porosidades las cuales son las que finalmente nos sirven de microfilt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38040" y="2001960"/>
            <a:ext cx="9507600" cy="4968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Las tres fases del tratamiento son la primaria, la secundaria y la terciaria. En la primaria, se elimina un gran porcentaje de sólidos en suspensión y materia inorgánica. En la secundaria se trata de reducir el contenido en materia orgánica acelerando los procesos biológicos naturales. La terciaria es necesaria cuando el agua va a ser reutilizada; elimina un 99% de los sólidos y además se emplean varios procesos químicos para garantizar que el agua esté tan libre de impurezas como sea posi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36240" y="244080"/>
            <a:ext cx="9474120" cy="141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ATAMIENTO DE AGUAS RESIDUA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820440" y="6954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7:04:56Z</dcterms:created>
  <dc:creator>cjjc</dc:creator>
  <dc:description/>
  <dc:language>en-US</dc:language>
  <cp:lastModifiedBy>USUARIO</cp:lastModifiedBy>
  <dcterms:modified xsi:type="dcterms:W3CDTF">2006-06-01T13:14:36Z</dcterms:modified>
  <cp:revision>63</cp:revision>
  <dc:subject/>
  <dc:title>Diapositiva 1</dc:title>
</cp:coreProperties>
</file>